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  <p:custShowLst>
    <p:custShow name="Chapter" id="0">
      <p:sldLst>
        <p:sld r:id="rId5"/>
        <p:sld r:id="rId6"/>
        <p:sld r:id="rId3"/>
        <p:sld r:id="rId12"/>
        <p:sld r:id="rId4"/>
      </p:sldLst>
    </p:custShow>
    <p:custShow name="ELI Sect 2" id="1">
      <p:sldLst>
        <p:sld r:id="rId5"/>
      </p:sldLst>
    </p:custShow>
    <p:custShow name="ELI Sect 3" id="2">
      <p:sldLst>
        <p:sld r:id="rId4"/>
        <p:sld r:id="rId7"/>
        <p:sld r:id="rId8"/>
        <p:sld r:id="rId9"/>
        <p:sld r:id="rId10"/>
        <p:sld r:id="rId11"/>
      </p:sldLst>
    </p:custShow>
    <p:custShow name="Transparencies" id="3">
      <p:sldLst>
        <p:sld r:id="rId6"/>
        <p:sld r:id="rId3"/>
        <p:sld r:id="rId12"/>
      </p:sldLst>
    </p:custShow>
    <p:custShow name="Chapter menu" id="4">
      <p:sldLst>
        <p:sld r:id="rId5"/>
        <p:sld r:id="rId4"/>
        <p:sld r:id="rId7"/>
        <p:sld r:id="rId8"/>
        <p:sld r:id="rId9"/>
        <p:sld r:id="rId10"/>
        <p:sld r:id="rId11"/>
        <p:sld r:id="rId1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earth_sci_cont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28600" y="572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ean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72388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>
            <a:hlinkClick r:id="" action="ppaction://hlinkshowjump?jump=previousslide"/>
          </p:cNvPr>
          <p:cNvSpPr/>
          <p:nvPr/>
        </p:nvSpPr>
        <p:spPr>
          <a:xfrm>
            <a:off x="4724280" y="6095880"/>
            <a:ext cx="99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>
            <a:hlinkClick r:id="" action="ppaction://hlinkshowjump?jump=nextslide"/>
          </p:cNvPr>
          <p:cNvSpPr/>
          <p:nvPr/>
        </p:nvSpPr>
        <p:spPr>
          <a:xfrm>
            <a:off x="5715000" y="6095880"/>
            <a:ext cx="1066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0">
            <a:hlinkClick r:id="" action="ppaction://hlinkshowjump?jump=endshow"/>
          </p:cNvPr>
          <p:cNvSpPr/>
          <p:nvPr/>
        </p:nvSpPr>
        <p:spPr>
          <a:xfrm>
            <a:off x="8039160" y="60958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>
            <a:hlinkClick r:id="rId3" action="ppaction://hlinksldjump"/>
          </p:cNvPr>
          <p:cNvSpPr/>
          <p:nvPr/>
        </p:nvSpPr>
        <p:spPr>
          <a:xfrm>
            <a:off x="6934320" y="6248520"/>
            <a:ext cx="1143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5">
            <a:hlinkClick r:id="" action="ppaction://hlinkshowjump?jump=previousslide"/>
          </p:cNvPr>
          <p:cNvSpPr/>
          <p:nvPr/>
        </p:nvSpPr>
        <p:spPr>
          <a:xfrm>
            <a:off x="4829040" y="6172200"/>
            <a:ext cx="782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6">
            <a:hlinkClick r:id="" action="ppaction://hlinkshowjump?jump=nextslide"/>
          </p:cNvPr>
          <p:cNvSpPr/>
          <p:nvPr/>
        </p:nvSpPr>
        <p:spPr>
          <a:xfrm>
            <a:off x="5838840" y="6172200"/>
            <a:ext cx="809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7">
            <a:hlinkClick r:id="" action="ppaction://hlinkshowjump?jump=firstslide"/>
          </p:cNvPr>
          <p:cNvSpPr/>
          <p:nvPr/>
        </p:nvSpPr>
        <p:spPr>
          <a:xfrm>
            <a:off x="6886440" y="6172200"/>
            <a:ext cx="982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18">
            <a:hlinkClick r:id="" action="ppaction://hlinkshowjump?jump=endshow"/>
          </p:cNvPr>
          <p:cNvSpPr/>
          <p:nvPr/>
        </p:nvSpPr>
        <p:spPr>
          <a:xfrm>
            <a:off x="8048520" y="6172200"/>
            <a:ext cx="849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684360"/>
            <a:ext cx="8229600" cy="73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ction 3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an Resourc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sh Water from the Ocea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eral and Energy Resourc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od from the Ocea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ean-Water Pollutio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Pollutio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s in Actio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rmal Pollutio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68" name="ShockwaveFlash1"/>
          <p:cNvGraphicFramePr/>
          <p:nvPr/>
        </p:nvGraphicFramePr>
        <p:xfrm>
          <a:off x="2128680" y="1600200"/>
          <a:ext cx="4937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600200"/>
                    <a:ext cx="4937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7932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aps in Actio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400" y="1498680"/>
            <a:ext cx="6024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 Surface Temperatures in Augus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2" name="Picture 8" descr="Untitled-6 copy"/>
          <p:cNvPicPr/>
          <p:nvPr/>
        </p:nvPicPr>
        <p:blipFill>
          <a:blip r:embed="rId1"/>
          <a:stretch/>
        </p:blipFill>
        <p:spPr>
          <a:xfrm>
            <a:off x="1996920" y="1981080"/>
            <a:ext cx="5394600" cy="390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 important resources of the ocean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hreat water pollution poses to marine organism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ethods of Desalination</a:t>
            </a: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alinati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method of desalination is 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method of desalination i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reez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This process requires about one-sixth the energy needed for distillation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a popular method for desalinating ocean water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resh Water from the Ocea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etroleum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st valuable resource in the ocean is 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shore oil and natural gas deposits exist along continental margins around the world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ut one-fourth of the world’s oil is now obtained from offshore well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ineral and Energy Resourc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odul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dules are a valuable source of *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ever the recovery of nodules is expensive and difficult because they are located in very deep water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country borders are observed only close to land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question of who has the right to mine minerals from the ocean floor has not been answered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ineral and Energy Resource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race Mineral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ncentration of most other useful chemicals that are dissolved in the oceans is very small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xtraction of minerals found only in trace amounts is too costly to be practical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ineral and Energy Resource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ishing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fish are a significant food source for people around the world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shing has become an important industry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when the ocean is overfished, or overharvested, over a long period of time, fish populations can collaps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llapse may damage the ecosystem and threaten the fishing industry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ood from the Ocea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quacultur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quacultu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ajor problem for aquaculturalists is that the ocean farms are 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 the best conditions, an ocean farm could produce more food than an agricultural farm of the same siz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ood from the Ocean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ceans have been used as a dumping ground for many kinds of wastes including garbage, sewage, and nuclear wast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rowth of the world population and the increased use of more-toxic substances have reduced the ocean’s ability to absorb wastes and renew itself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ean-water pollution threatens both marine organisms and humans by damaging food resources in the ocean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cean-Water Pollutio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it Rocksund</dc:creator>
  <dc:description/>
  <dc:language>en-US</dc:language>
  <cp:lastModifiedBy>trocksund</cp:lastModifiedBy>
  <cp:lastPrinted>2004-02-20T14:12:55Z</cp:lastPrinted>
  <dcterms:modified xsi:type="dcterms:W3CDTF">2014-03-19T15:25:12Z</dcterms:modified>
  <cp:revision>665</cp:revision>
  <dc:subject/>
  <dc:title>No Slide Title</dc:title>
</cp:coreProperties>
</file>